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4368-1CCE-48C0-AD38-0B80E777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5400"/>
            <a:ext cx="90644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A646-8DC8-45A3-8E5F-C2FFD145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5400"/>
            <a:ext cx="44233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640" y="4055400"/>
            <a:ext cx="44233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E97-6695-4096-BCFB-77671E74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5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7600" y="1768320"/>
            <a:ext cx="29185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2640" y="1768320"/>
            <a:ext cx="29185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5400"/>
            <a:ext cx="29185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7600" y="4055400"/>
            <a:ext cx="29185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2640" y="4055400"/>
            <a:ext cx="29185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0985-59D4-4874-9595-37918C2A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44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4300-FE4F-4D30-B0DD-47CFFE7A4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44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940A-8DDE-4A53-9961-0AA4020B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594B-94E9-4793-9C27-F5AAAFE9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BF2D-201A-4984-9034-F3144E09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644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FC26-0477-4C2A-9C52-BAAA036B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5400"/>
            <a:ext cx="44233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B676-2736-4361-82F9-023C2B03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640" y="4055400"/>
            <a:ext cx="44233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75DE-96B2-4DDF-8EDC-3BFFC5BA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33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640" y="1768320"/>
            <a:ext cx="442332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5400"/>
            <a:ext cx="9064440" cy="208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AF84-D034-43B1-A4A1-C52CC261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6C30C-A465-4E34-B1EF-5893317800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MOL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3280" y="1804680"/>
            <a:ext cx="91900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9000"/>
          </a:bodyPr>
          <a:p>
            <a:pPr indent="0" algn="just">
              <a:lnSpc>
                <a:spcPct val="93000"/>
              </a:lnSpc>
              <a:spcAft>
                <a:spcPts val="25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yMOL is an open-source structural visualization program written by Warren DeLano and now maintained by Schrodinger LL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25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has become the standard program for visualization and image creation for pub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25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ademic and industry users pay a license fee to download a precompiled version; however, as it is open source, anyone can compile a version for themselves.  Also, older versions are freely available (and work fine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25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e: https://sourceforge.net/projects/pymol/files/Legacy/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is a wiki with tutorials and all commands described he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Aft>
                <a:spcPts val="25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ttps://pymolwiki.org/index.php/Main_P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624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gging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1880" y="1285920"/>
            <a:ext cx="86868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want to move different objects around to compare them this can be accomplished with the “Drag”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1880" y="2011320"/>
            <a:ext cx="877896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if you open a pse, it overwrites the current session, so you can only import individual pdb files (e.g. in the raw_pdb) directories. Also when you open a new pdb, PyMOL will zoom in on that file.  You may have to zoom in on the &lt;all&gt; o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38360" y="3017880"/>
            <a:ext cx="1457280" cy="4324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>
            <a:off x="2101320" y="3749760"/>
            <a:ext cx="460440" cy="2746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3749760"/>
            <a:ext cx="6400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&lt;A&gt; button next to an object, then the &lt;drag&gt;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43200" y="4757760"/>
            <a:ext cx="59389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holding shift, you can drag with the various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ranslate, rotate, etc) to move just that o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tagenesis s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2520" y="1463760"/>
            <a:ext cx="6675480" cy="2141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V="1">
            <a:off x="1736640" y="2281320"/>
            <a:ext cx="1463760" cy="1380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1520" y="3657600"/>
            <a:ext cx="26416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zard → Muta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33920" y="3200400"/>
            <a:ext cx="2133720" cy="26668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 flipV="1">
            <a:off x="2651040" y="3743280"/>
            <a:ext cx="1981440" cy="101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tagenesis s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74680" y="1371600"/>
            <a:ext cx="8315280" cy="50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85320"/>
            <a:ext cx="906948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tagenesis s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77920" y="950760"/>
            <a:ext cx="8296200" cy="4991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 flipV="1">
            <a:off x="4118040" y="3598920"/>
            <a:ext cx="2468520" cy="3114720"/>
          </a:xfrm>
          <a:prstGeom prst="line">
            <a:avLst/>
          </a:prstGeom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93800" y="6730920"/>
            <a:ext cx="32162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here to choose the mu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05440" y="6097680"/>
            <a:ext cx="325620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idues have differen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tam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ays they like to bend); you can cycle through them with these butt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887880" y="5890680"/>
            <a:ext cx="98280" cy="281160"/>
          </a:xfrm>
          <a:prstGeom prst="line">
            <a:avLst/>
          </a:prstGeom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989760" y="5890680"/>
            <a:ext cx="635040" cy="281160"/>
          </a:xfrm>
          <a:prstGeom prst="line">
            <a:avLst/>
          </a:prstGeom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6858000" y="3876840"/>
            <a:ext cx="1835280" cy="182520"/>
          </a:xfrm>
          <a:prstGeom prst="line">
            <a:avLst/>
          </a:prstGeom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574120" y="3602160"/>
            <a:ext cx="152244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574120" y="4286160"/>
            <a:ext cx="9525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9720" y="2743200"/>
            <a:ext cx="27468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2720" y="2774880"/>
            <a:ext cx="309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4800" y="6696000"/>
            <a:ext cx="309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78560" y="6365880"/>
            <a:ext cx="309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651880" y="3313080"/>
            <a:ext cx="309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651880" y="4043520"/>
            <a:ext cx="30960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onal advanced: Command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0" t="0" r="0" b="72174"/>
          <a:stretch/>
        </p:blipFill>
        <p:spPr>
          <a:xfrm>
            <a:off x="182520" y="1554120"/>
            <a:ext cx="5851440" cy="1371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31880" y="2835360"/>
            <a:ext cx="274680" cy="639720"/>
          </a:xfrm>
          <a:prstGeom prst="line">
            <a:avLst/>
          </a:prstGeom>
          <a:ln w="29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00800" y="2925720"/>
            <a:ext cx="35654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21320" y="7093080"/>
            <a:ext cx="40942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://pymolwiki.org/index.php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3403440"/>
            <a:ext cx="347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n be typed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772160"/>
            <a:ext cx="2249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cartoon, S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4413240"/>
            <a:ext cx="2873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oom OBJ or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564160"/>
            <a:ext cx="26956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NAME,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5203800"/>
            <a:ext cx="22622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 COLOR, S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8640" y="4016520"/>
            <a:ext cx="1855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few 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8640" y="5961240"/>
            <a:ext cx="273384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NAME,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92480" y="6126120"/>
            <a:ext cx="110664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44920" y="5929200"/>
            <a:ext cx="3411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vailable on command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47720" y="7083360"/>
            <a:ext cx="45817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reference pdf and wiki for more detai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onal advanced: Command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82520" y="1554120"/>
            <a:ext cx="5851440" cy="4930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30280" y="2305080"/>
            <a:ext cx="3200400" cy="182520"/>
          </a:xfrm>
          <a:prstGeom prst="rect">
            <a:avLst/>
          </a:prstGeom>
          <a:noFill/>
          <a:ln w="29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30680" y="2487600"/>
            <a:ext cx="2579760" cy="345960"/>
          </a:xfrm>
          <a:prstGeom prst="line">
            <a:avLst/>
          </a:prstGeom>
          <a:ln w="29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2925720"/>
            <a:ext cx="35654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reates (nearRNA) selection, specifies atoms that are within 3.5A of RNA objec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OBJ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round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DIST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yresidu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– selects the entire residue from a given at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ne can use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operat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.g. “polymerase and …” means everything that is near RNA and is part of the polymerase prote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e the PyMOLRef.pdf for more command line information (or the wiki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21320" y="5905440"/>
            <a:ext cx="40942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://pymolwiki.org/index.php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ing up PyM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39720" y="1547640"/>
            <a:ext cx="6035760" cy="5035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24520" y="1484280"/>
            <a:ext cx="3019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 windows (in PC/linu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50160" y="2031840"/>
            <a:ext cx="2417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and line/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950160" y="4154400"/>
            <a:ext cx="29098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raphical user interf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and 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843440" y="2835360"/>
            <a:ext cx="22924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32680" y="2651040"/>
            <a:ext cx="2811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type command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843440" y="2560680"/>
            <a:ext cx="22924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32680" y="2363760"/>
            <a:ext cx="24811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in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2880" y="6823080"/>
            <a:ext cx="96872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crosoft YaHei"/>
              </a:rPr>
              <a:t>Note: We are using legacy builds toda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.g. v0.99) that do not require a subscription, ignore the legal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ding a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49360" y="1531800"/>
            <a:ext cx="8343720" cy="1943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00320" y="4114800"/>
            <a:ext cx="60242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&gt;Open…   → Chose a pdb or pymol session (.pse)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26840" y="2006280"/>
            <a:ext cx="649080" cy="20206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79440" y="4754520"/>
            <a:ext cx="86565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B: Protein data bank – the coordinates in x,y,z of every atom in a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E: Annotated PDB files; can have selections, colors, representations, movie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ault view: a loaded pdb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RNA_polymerase_1msw.pd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22320" y="1893960"/>
            <a:ext cx="8315280" cy="50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308640" y="1266840"/>
            <a:ext cx="1314360" cy="23907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659720" y="1279440"/>
            <a:ext cx="847800" cy="3171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8594640" y="1279440"/>
            <a:ext cx="82872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224760" y="4529160"/>
            <a:ext cx="1428480" cy="2876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7756560" y="4632480"/>
            <a:ext cx="838080" cy="2590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274680" y="860400"/>
            <a:ext cx="5950080" cy="3619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 flipV="1">
            <a:off x="5846760" y="1184400"/>
            <a:ext cx="466560" cy="87120"/>
          </a:xfrm>
          <a:prstGeom prst="line">
            <a:avLst/>
          </a:prstGeom>
          <a:ln w="29160">
            <a:solidFill>
              <a:srgbClr val="ff45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8640" y="1266840"/>
            <a:ext cx="3114720" cy="1440"/>
          </a:xfrm>
          <a:prstGeom prst="line">
            <a:avLst/>
          </a:prstGeom>
          <a:ln w="29160">
            <a:solidFill>
              <a:srgbClr val="ff4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502160"/>
            <a:ext cx="4986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can change the colors and repres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GU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lecule can be rotated with the mo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with M1 (left button) to ro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with M2 (right button) to z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g with M3 (middle button) to trans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oll mouse wheel to change slice of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is makes sense when you try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atoms/residues by clicking on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somewhere empty to rese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37000" y="173160"/>
            <a:ext cx="51624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ing the PyMOL G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228600"/>
            <a:ext cx="906948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it o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96920" y="6126120"/>
            <a:ext cx="4114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he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how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024520" y="3657600"/>
            <a:ext cx="2252520" cy="2560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214960" y="6153120"/>
            <a:ext cx="2552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c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how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569960" y="3767040"/>
            <a:ext cx="1811520" cy="23590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98360" y="658800"/>
            <a:ext cx="3191040" cy="2724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3319560"/>
            <a:ext cx="4114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to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how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condary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211720" y="841320"/>
            <a:ext cx="2743200" cy="2430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211720" y="3319560"/>
            <a:ext cx="4754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how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lvent accessible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39960" y="6661080"/>
            <a:ext cx="66326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of these is the most accurate representa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39960" y="7058160"/>
            <a:ext cx="67849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use one or the other? (you can combine them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055520"/>
            <a:ext cx="8362800" cy="1962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85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PyMOL command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280960" y="2468520"/>
            <a:ext cx="6227640" cy="3650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504280" y="2286000"/>
            <a:ext cx="12081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282400" y="1736640"/>
            <a:ext cx="6085080" cy="846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05920" y="1574640"/>
            <a:ext cx="1842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&amp;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13360" y="3200400"/>
            <a:ext cx="2036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g_color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13360" y="3544920"/>
            <a:ext cx="22320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nge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11560" y="3956040"/>
            <a:ext cx="3532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NAME, selection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11560" y="4302000"/>
            <a:ext cx="3162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atoms for an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92160" y="2997360"/>
            <a:ext cx="4803840" cy="2946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011560" y="4856040"/>
            <a:ext cx="3530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NAME, selection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11560" y="5202360"/>
            <a:ext cx="39862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reate a new object with these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11560" y="3956040"/>
            <a:ext cx="35323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NAME, selection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11560" y="4302000"/>
            <a:ext cx="33242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lect atoms for an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with no name it’s called “sele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11560" y="5611680"/>
            <a:ext cx="4916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w (surface/cartoon/sticks/spheres), s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11560" y="5884920"/>
            <a:ext cx="4695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how a representation of the selected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11560" y="6173640"/>
            <a:ext cx="42166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sentially the same as the GUI (S)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11560" y="6585120"/>
            <a:ext cx="128592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om s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11560" y="6858000"/>
            <a:ext cx="3251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oom onto the selected 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13360" y="7147080"/>
            <a:ext cx="410220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ssentially the same as the GUI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2160" y="6126120"/>
            <a:ext cx="36687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s: click to hide/sh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lection): click to select/de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835360" y="3652560"/>
            <a:ext cx="1006560" cy="2477880"/>
          </a:xfrm>
          <a:prstGeom prst="line">
            <a:avLst/>
          </a:prstGeom>
          <a:ln w="9360">
            <a:solidFill>
              <a:srgbClr val="ff45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916280" y="3565440"/>
            <a:ext cx="466560" cy="639720"/>
          </a:xfrm>
          <a:prstGeom prst="line">
            <a:avLst/>
          </a:prstGeom>
          <a:ln w="9360">
            <a:solidFill>
              <a:srgbClr val="ff45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36800" y="3220920"/>
            <a:ext cx="17161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playing primary sequ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58720" y="4389480"/>
            <a:ext cx="831060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06440" y="1189080"/>
            <a:ext cx="8372520" cy="1971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06560" y="3565440"/>
            <a:ext cx="80708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→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→ Sequence  Mode → residue codes (change from 1-letter to 3-let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040" y="5851440"/>
            <a:ext cx="96012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s are displayed per object and color coded according to the display color in the 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040" y="6392880"/>
            <a:ext cx="7651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lick on a residue  (or drag over a region) in the sequence to select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82520" y="3040200"/>
            <a:ext cx="5578560" cy="34048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4680" y="91800"/>
            <a:ext cx="906948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th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82520" y="822240"/>
            <a:ext cx="6675480" cy="21416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42920" y="2378160"/>
            <a:ext cx="2560680" cy="66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103480" y="1549080"/>
            <a:ext cx="914400" cy="1106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920" y="2560680"/>
            <a:ext cx="26416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zard →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373480" y="2743200"/>
            <a:ext cx="334800" cy="549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65440" y="2378160"/>
            <a:ext cx="3382920" cy="66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03600" y="2743200"/>
            <a:ext cx="2508120" cy="25606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67560" y="2468520"/>
            <a:ext cx="3009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wo atoms (o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struc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83320" y="3040200"/>
            <a:ext cx="1800" cy="496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303960" y="3565440"/>
            <a:ext cx="1011240" cy="1646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4297320" y="4022640"/>
            <a:ext cx="1736640" cy="139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H="1" flipV="1">
            <a:off x="4660560" y="5391000"/>
            <a:ext cx="1562040" cy="943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06960" y="6329520"/>
            <a:ext cx="213228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when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852960" y="3657600"/>
            <a:ext cx="649080" cy="549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97720" y="3475080"/>
            <a:ext cx="2171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el: distance in 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97720" y="3906720"/>
            <a:ext cx="25909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hange color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label_color, 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5571720" y="4157640"/>
            <a:ext cx="1198440" cy="1241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21560" y="5415120"/>
            <a:ext cx="310968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measuremen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hange color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2T20:19:27Z</dcterms:created>
  <dc:creator>Michael Reese</dc:creator>
  <dc:description/>
  <dc:language>en-US</dc:language>
  <cp:lastModifiedBy>Michael Reese</cp:lastModifiedBy>
  <dcterms:modified xsi:type="dcterms:W3CDTF">2018-12-06T16:19:21Z</dcterms:modified>
  <cp:revision>43</cp:revision>
  <dc:subject/>
  <dc:title/>
</cp:coreProperties>
</file>